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9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F85-A8FA-496F-BBCD-FD0A4AA8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9CE-C7E0-43C3-AC34-C5B64360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6D4-7B6C-456A-B8C4-DBF7A36F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01E-FB56-46A9-AC3E-1C11033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BDC-3CC5-468D-A2D6-0FA61AC2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927-7ED9-4877-9CDB-4C8BBD07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05F-1844-456A-8F84-4037A810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C76-CD2E-4D72-A540-7F01B61A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E32-5425-4AC6-8135-E2ADD6DE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318-548B-4390-A44E-15B16BA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887-4438-4770-933B-23B9F138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90A-3037-449F-B448-4E3E7808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388D-83B4-49F7-B2E9-8CEC7438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304920"/>
          <a:ext cx="1327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304920"/>
                    <a:ext cx="1327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657600" y="533520"/>
            <a:ext cx="1371600" cy="996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44" name=""/>
          <p:cNvGrpSpPr/>
          <p:nvPr/>
        </p:nvGrpSpPr>
        <p:grpSpPr>
          <a:xfrm>
            <a:off x="5943600" y="152280"/>
            <a:ext cx="3124080" cy="1404720"/>
            <a:chOff x="5943600" y="152280"/>
            <a:chExt cx="3124080" cy="1404720"/>
          </a:xfrm>
        </p:grpSpPr>
        <p:sp>
          <p:nvSpPr>
            <p:cNvPr id="45" name=""/>
            <p:cNvSpPr/>
            <p:nvPr/>
          </p:nvSpPr>
          <p:spPr>
            <a:xfrm>
              <a:off x="6705360" y="152280"/>
              <a:ext cx="175284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15b921"/>
                  </a:solidFill>
                  <a:latin typeface="Comic Sans MS"/>
                  <a:ea typeface="Times New Roman"/>
                </a:rPr>
                <a:t> </a:t>
              </a:r>
              <a:r>
                <a:rPr b="1" i="1" lang="en-GB" sz="2800" spc="-1" strike="noStrike">
                  <a:solidFill>
                    <a:srgbClr val="339933"/>
                  </a:solidFill>
                  <a:latin typeface="Mistral"/>
                  <a:ea typeface="Times New Roman"/>
                </a:rPr>
                <a:t>ppn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43600" y="685800"/>
              <a:ext cx="312408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	</a:t>
              </a:r>
              <a:r>
                <a:rPr b="1" lang="es-ES" sz="1100" spc="-1" strike="noStrike">
                  <a:solidFill>
                    <a:srgbClr val="339933"/>
                  </a:solidFill>
                  <a:latin typeface="Arial"/>
                  <a:ea typeface="Arial"/>
                </a:rPr>
                <a:t>       </a:t>
              </a:r>
              <a:r>
                <a:rPr b="1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ograma Postgrado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Nutrición Pública</a:t>
              </a:r>
              <a:r>
                <a:rPr b="0" lang="es-ES" sz="2000" spc="-1" strike="noStrike">
                  <a:solidFill>
                    <a:srgbClr val="339933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31360" y="3124080"/>
            <a:ext cx="8612280" cy="1975320"/>
            <a:chOff x="531360" y="3124080"/>
            <a:chExt cx="8612280" cy="1975320"/>
          </a:xfrm>
        </p:grpSpPr>
        <p:sp>
          <p:nvSpPr>
            <p:cNvPr id="48" name=""/>
            <p:cNvSpPr/>
            <p:nvPr/>
          </p:nvSpPr>
          <p:spPr>
            <a:xfrm>
              <a:off x="531360" y="401472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r. Guillermo López de Romañ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33520" y="4700520"/>
              <a:ext cx="861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"/>
                </a:rPr>
                <a:t>Universidad Nacional Agraria, La Molina,  L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3124080"/>
              <a:ext cx="8443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o de Productos Pesqueros: Importancia en la Nutrición del Per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acterísticas de los Alimentos de Alta Calidad Nutri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ína con cantidades adecuadas de amonoacidos esen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ido adecuado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 digestibilidad y absorción de 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62120" indent="-476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ido a su mayor precio deben ser utilizados para mejorar la calidad de otros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508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9440" y="194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48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18280" y="1789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2716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08400" y="1219320"/>
          <a:ext cx="374796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1219320"/>
                    <a:ext cx="3747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1336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0360" y="415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00" y="53352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81280" y="1371600"/>
          <a:ext cx="36925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1371600"/>
                    <a:ext cx="369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ción de Nutrientes  en 100 g de Diversos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89040" y="1295280"/>
          <a:ext cx="3748320" cy="518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295280"/>
                    <a:ext cx="374832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04920" y="1981080"/>
          <a:ext cx="838188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1100160"/>
                <a:gridCol w="1287720"/>
                <a:gridCol w="1287360"/>
                <a:gridCol w="1285920"/>
                <a:gridCol w="128736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or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i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er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scado Ju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evo de Gal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ne de P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638280"/>
            <a:ext cx="8915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tidad de Nutrientes que se pueden adquir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 el valor de 1 Sol en los Mercados de 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4 de Marzo de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52280" y="1424160"/>
          <a:ext cx="8915400" cy="33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24160"/>
                    <a:ext cx="891540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07280" y="536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ú: Información Pesquera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05944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914400" y="114480"/>
          <a:ext cx="7391520" cy="64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480"/>
                    <a:ext cx="7391520" cy="64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990720" y="6583320"/>
            <a:ext cx="135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OSTAT, 200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iones Necesarias para Incrementar el Consumo de Productos Hidrobi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r la oferta de productos haciéndola económicam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a con otras fuentes de proteín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demanda mediante campañas de educación y promo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186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440" y="3138480"/>
            <a:ext cx="9000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rra y Sel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oferta de productos, salados secos u otros, de bajo co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ular la demanda de est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r la producción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9960" y="4586400"/>
            <a:ext cx="88448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ar concentrado proteico de alto valor nutricional, sin 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abor que pueda utilizarse para mejorar la calidad de las di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ña Nacional para incentivar el consu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822240"/>
          <a:ext cx="914400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224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87320"/>
          <a:ext cx="868680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87320"/>
                    <a:ext cx="868680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69960" y="892080"/>
          <a:ext cx="776448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892080"/>
                    <a:ext cx="776448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aís se encuentra atravesando el fenómeno de transición nutricional por lo cual autoridades y la población deben tomar conciencia del m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iniciar a la brevedad posible una campaña de educación nutricional orientada a controlar el sobrepeso y promover el consumo de alimentos de alto valor nutricional como son los productos hidrobi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productos marinos de bajo costo que puedan ser trasladados a sierra y s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necesario contar con concentrados proteicos de productos hidrobiológicos, sin olor o sabor y de precio competitivos, para ser utilizados en preparación de los alimentos que se distribuyen en los programas sociales y como aditivos (polvo, o “spreads”) a dietas de baja calidad que se consumen en zonas deprim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o en el consumo total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oferta y variedad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r variabilidad est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alimentos proces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acceso a compra de alimentos preparados de poca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jor capacidad de compra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l consumo de alimentos de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la duración de lactancia ma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 alimentos de origen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ingesta de carbohidratos y g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minución del contenido de fi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minución de la actividad fí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ción de maquinaria en el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e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tiempos de poc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dades en el hogar (luz, agua, desag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39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ios en los Patrones de Vida de la Población con la Urb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457200"/>
          <a:ext cx="9144000" cy="59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304920"/>
          <a:ext cx="9144000" cy="57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409760"/>
          <a:ext cx="9182160" cy="47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9760"/>
                    <a:ext cx="91821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655560"/>
            <a:ext cx="8381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valencia de Sobrepeso y Obesidad (IMC&gt;25) en M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ES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alencia de Deficiencia 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nutrientes en el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828800"/>
          <a:ext cx="8076960" cy="3906720"/>
        </p:xfrm>
        <a:graphic>
          <a:graphicData uri="http://schemas.openxmlformats.org/drawingml/2006/table">
            <a:tbl>
              <a:tblPr/>
              <a:tblGrid>
                <a:gridCol w="4038480"/>
                <a:gridCol w="2049480"/>
                <a:gridCol w="198900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Niños Preescol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6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. de Vitamina 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Ni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 en M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’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’75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4191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Personas con deficiencia de micronutr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70720" y="548640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4’7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1337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 Sobrepeso - Obe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3367080"/>
            <a:ext cx="17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2’63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808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Número de Personas con deficiencia de ali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1280" y="144792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’362,5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12Z</dcterms:created>
  <dc:creator>GLDR</dc:creator>
  <dc:description/>
  <dc:language>en-US</dc:language>
  <cp:lastModifiedBy>GLDR</cp:lastModifiedBy>
  <dcterms:modified xsi:type="dcterms:W3CDTF">2004-03-31T02:39:53Z</dcterms:modified>
  <cp:revision>33</cp:revision>
  <dc:subject/>
  <dc:title>Diapositiva 1</dc:title>
</cp:coreProperties>
</file>