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12F-246F-4009-97BE-DDC1D5D1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B97-9C1D-4609-B0CE-AB3CCCFB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36D-2434-4AB9-8D79-5898A0FF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74E-AB35-460A-807C-2A28B935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17D-8149-4066-AAF5-BE9F4A6E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471-B7F7-4197-A89A-0B88CCC1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B7B-8D70-4BC4-906C-56FC50A0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6A4-7924-4B32-8C0E-7180F8F4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FB2-EE37-4AB3-96DA-0ABF5EE2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B9E-9534-4801-BD0F-A2335398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DD3-70B8-45FA-99B3-619F2984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BBE-E561-4F9C-9500-AFF49B45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2F39-EC54-4EA9-9EE8-104BCB729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304920"/>
          <a:ext cx="1327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304920"/>
                    <a:ext cx="1327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371600" cy="996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44" name=""/>
          <p:cNvGrpSpPr/>
          <p:nvPr/>
        </p:nvGrpSpPr>
        <p:grpSpPr>
          <a:xfrm>
            <a:off x="5943600" y="152280"/>
            <a:ext cx="3124080" cy="1404720"/>
            <a:chOff x="5943600" y="152280"/>
            <a:chExt cx="3124080" cy="1404720"/>
          </a:xfrm>
        </p:grpSpPr>
        <p:sp>
          <p:nvSpPr>
            <p:cNvPr id="45" name=""/>
            <p:cNvSpPr/>
            <p:nvPr/>
          </p:nvSpPr>
          <p:spPr>
            <a:xfrm>
              <a:off x="6705360" y="152280"/>
              <a:ext cx="17528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15b921"/>
                  </a:solidFill>
                  <a:latin typeface="Comic Sans MS"/>
                  <a:ea typeface="Times New Roman"/>
                </a:rPr>
                <a:t> </a:t>
              </a:r>
              <a:r>
                <a:rPr b="1" i="1" lang="en-GB" sz="2800" spc="-1" strike="noStrike">
                  <a:solidFill>
                    <a:srgbClr val="339933"/>
                  </a:solidFill>
                  <a:latin typeface="Mistral"/>
                  <a:ea typeface="Times New Roman"/>
                </a:rPr>
                <a:t>ppn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3600" y="685800"/>
              <a:ext cx="312408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       </a:t>
              </a:r>
              <a:r>
                <a:rPr b="1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Programa Postgrado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Nutrición Pública</a:t>
              </a:r>
              <a:r>
                <a:rPr b="0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1360" y="3124080"/>
            <a:ext cx="8612280" cy="1975320"/>
            <a:chOff x="531360" y="3124080"/>
            <a:chExt cx="8612280" cy="1975320"/>
          </a:xfrm>
        </p:grpSpPr>
        <p:sp>
          <p:nvSpPr>
            <p:cNvPr id="48" name=""/>
            <p:cNvSpPr/>
            <p:nvPr/>
          </p:nvSpPr>
          <p:spPr>
            <a:xfrm>
              <a:off x="531360" y="401472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Guillermo López de Romañ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4700520"/>
              <a:ext cx="86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Universidad Nacional Agraria, La Molina,  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3124080"/>
              <a:ext cx="844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o de Productos Pesqueros: Importancia en la Nutrición del Per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ísticas de los Alimentos de Alta Calidad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ína con cantidades adecuadas de amonoa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adecuado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digestibilidad y absorción de 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do a su mayor precio deben ser utilizados para mejorar la calidad de otr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508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944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271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08400" y="1219320"/>
          <a:ext cx="37479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1219320"/>
                    <a:ext cx="3747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013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03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00" y="533520"/>
            <a:ext cx="89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81280" y="1371600"/>
          <a:ext cx="3692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371600"/>
                    <a:ext cx="369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89040" y="1295280"/>
          <a:ext cx="374832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295280"/>
                    <a:ext cx="37483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04920" y="1981080"/>
          <a:ext cx="838188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1100160"/>
                <a:gridCol w="1287720"/>
                <a:gridCol w="1287360"/>
                <a:gridCol w="1285920"/>
                <a:gridCol w="128736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o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i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cado J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vo de Gal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P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6382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tidad de Nutrientes que se pueden adquir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l valor de 1 Sol en los Mercados de 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4 de Marzo de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1424160"/>
          <a:ext cx="891540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24160"/>
                    <a:ext cx="8915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07280" y="536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ú: Información Pesquera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0594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114480"/>
          <a:ext cx="7391520" cy="64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480"/>
                    <a:ext cx="7391520" cy="64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65833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iones Necesarias para Incrementar el Consumo de Productos Hidro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oferta de productos haciéndola económ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a con otras fuentes de proteín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demanda mediante campañas de educación y 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3138480"/>
            <a:ext cx="9000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y Sel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oferta de productos, salados secos u otros, de baj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demanda de est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producción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9960" y="4586400"/>
            <a:ext cx="8844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concentrado proteico de alto valor nutricional, sin 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abor que pueda utilizarse para mejorar la calidad de las di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ña Nacional para incentivar el consu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822240"/>
          <a:ext cx="914400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87320"/>
          <a:ext cx="86868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87320"/>
                    <a:ext cx="8686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9960" y="892080"/>
          <a:ext cx="776448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892080"/>
                    <a:ext cx="77644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ís se encuentra atravesando el fenómeno de transición nutricional por lo cual autoridades y la población deben tomar conciencia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iniciar a la brevedad posible una campaña de educación nutricional orientada a controlar el sobrepeso y promover el consumo de alimentos de alto valor nutricional como son los productos hidrob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productos marinos de bajo costo que puedan ser trasladados a sierra y s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concentrados proteicos de productos hidrobiológicos, sin olor o sabor y de precio competitivos, para ser utilizados en preparación de los alimentos que se distribuyen en los programas sociales y como aditivos (polvo, o “spreads”) a dietas de baja calidad que se consumen en zonas depri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o en el consumo total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oferta y variedad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r variabilidad 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alimentos proces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compra de alimentos preparados de poc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capacidad de compra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l consumo de aliment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la duración de lactancia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alimentos de origen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ingesta de carbohidratos y g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l contenido de f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 la actividad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ción de maquinaria en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tiempos de poc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dades en el hogar (luz, agua, des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ios en los Patrones de Vida de la Población con la Urb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457200"/>
          <a:ext cx="9144000" cy="59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3049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409760"/>
          <a:ext cx="918216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821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655560"/>
            <a:ext cx="8381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alencia de Sobrepeso y Obesidad (IMC&gt;25) en M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DES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ia de Deficiencia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es en el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828800"/>
          <a:ext cx="8076960" cy="3906720"/>
        </p:xfrm>
        <a:graphic>
          <a:graphicData uri="http://schemas.openxmlformats.org/drawingml/2006/table">
            <a:tbl>
              <a:tblPr/>
              <a:tblGrid>
                <a:gridCol w="4038480"/>
                <a:gridCol w="2049480"/>
                <a:gridCol w="198900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Niños Preesco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6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. de Vitamina 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Ni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M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’7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191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Personas con deficiencia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0720" y="54864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’7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1337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 Sobrepeso - Obe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33670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2’63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Número de Personas con deficiencia d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4479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’362,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12Z</dcterms:created>
  <dc:creator>GLDR</dc:creator>
  <dc:description/>
  <dc:language>en-US</dc:language>
  <cp:lastModifiedBy>GLDR</cp:lastModifiedBy>
  <dcterms:modified xsi:type="dcterms:W3CDTF">2004-03-31T02:39:53Z</dcterms:modified>
  <cp:revision>33</cp:revision>
  <dc:subject/>
  <dc:title>Diapositiva 1</dc:title>
</cp:coreProperties>
</file>